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7E60-D4A8-48AA-B2E9-7AACDB3A9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5191-7E03-420C-8AC2-3EE346A54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5BEA-CD05-44D6-B183-4DE8CED2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1D4-9A9A-469C-B368-F2B5DCF4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D25-89CD-4605-BC7E-5FFDBC8F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26B-5EDF-4A96-95DF-4CAEDD41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CE3-951B-4985-8F44-BA759EC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C84-C508-4534-AA86-C97DAFFB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39D-C2DE-41E3-BB4C-B49D881A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F84A-5027-4D44-AFDE-E9967607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E23-F333-451D-BDA7-6420EFAE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5087-11CA-4BB6-A493-037D69F8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46E-2DC7-4168-9D1D-4E5930B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D9F-0135-45A6-97F1-428F14E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61B6-3964-49D4-A091-325049C54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4 Which of the following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nt factor affecting population growt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oubling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ex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tal ferti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rude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rude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5 Infant mortality rate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5 Infant mortality rate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2_10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6 In which stage of demographic transition are birth rates stable and death rates decl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is situation does not occur in any of the f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6 In which stage of demographic transition are birth rates stable and death rates decli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his situation does not occur in any of the f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2_13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7 Population growth rates are lowest in _________ of the demographic tran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7 Population growth rates are lowest in _________ of the demographic tran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St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g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ag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8 Dependency ratio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1 The country with the second-largest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8 Dependency ratios are highes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ou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North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9 According to Malthus, a growing population will even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to war with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utgrow its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ach an infini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 decimated by infectiou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ach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9 According to Malthus, a growing population will eventu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Go to war with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Outgrow its food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ach an infinit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e decimated by infectious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ach Stag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0 The most lethal global epidemic disease in recent years has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10 The most lethal global epidemic disease in recent years has b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ubercul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Ma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S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Eb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02_26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is diffuse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gio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al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ocation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dif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is diffused 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gio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al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ocation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us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n’t diff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1 The country with the second-largest populatio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2_01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2 The number of people per unit of arable land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ithmetic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ysiologic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nd-us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opulation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2 The number of people per unit of arable land is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rithmetic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Physiologic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gricultural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and-us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Population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3 Given a choice, people are most likely to live in a place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3 Given a choice, people are most likely to live in a place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Wa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2.04 Which of the following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gnificant factor affecting population growt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oubling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ex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otal fertilit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rude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rude bir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DoTS</cp:lastModifiedBy>
  <dcterms:modified xsi:type="dcterms:W3CDTF">2012-11-04T15:27:02Z</dcterms:modified>
  <cp:revision>79</cp:revision>
  <dc:subject/>
  <dc:title>CRS Chapter 4</dc:title>
</cp:coreProperties>
</file>